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3176-B716-4C63-B5A4-8D9FDAB5A81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EB4C-B480-4841-830B-411CD95A1D4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9633-EAC5-47FA-9D60-8C9121E819D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89F2-C6C0-4572-856E-61A99CD11712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B032-2FBA-445A-8634-366FC4422B6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079D2-0CEB-4ADB-AB14-973ECCCBDF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CC0CE-74E4-4F2D-919B-65718C45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78665-7557-4818-B101-1A4EE64A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A4060-808F-431D-854F-B3BBA77BC1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9AD50-EEC7-439F-88F6-ED91BDC9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44E23-33EF-495A-A10D-D0DFC02B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97873-ACF9-4E61-9DAA-3697D36A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A9F77-FF42-4366-A159-30108B46A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E19A6-5985-446E-AD66-E3ADBD8A9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7BB86-67C7-4E04-995B-0C4BCC3C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D2047-41B7-4730-BB24-12B9E79C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2AD9E-F767-4AE8-A9D4-35BDD785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ABC4-2364-41A4-847E-3CDC5EB3A7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9BA0-F2C6-4A19-BB71-432ED9F30567}" type="datetime">
              <a:rPr b="0" lang="zh-CN" sz="1000" spc="-1" strike="noStrike">
                <a:solidFill>
                  <a:srgbClr val="ffffff"/>
                </a:solidFill>
                <a:latin typeface="Verdana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4365360"/>
            <a:ext cx="5685120" cy="19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十节 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神经系统评估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D02B-4691-4F85-8E77-D3A0023719A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4" descr="DSC01884"/>
          <p:cNvPicPr/>
          <p:nvPr/>
        </p:nvPicPr>
        <p:blipFill>
          <a:blip r:embed="rId1"/>
          <a:srcRect l="16796" t="3267" r="20759" b="3267"/>
          <a:stretch/>
        </p:blipFill>
        <p:spPr>
          <a:xfrm>
            <a:off x="2195640" y="1916280"/>
            <a:ext cx="1190520" cy="1334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5" name="Picture 3" descr="DSC01881"/>
          <p:cNvPicPr/>
          <p:nvPr/>
        </p:nvPicPr>
        <p:blipFill>
          <a:blip r:embed="rId2"/>
          <a:srcRect l="12348" t="6507" r="23743" b="11400"/>
          <a:stretch/>
        </p:blipFill>
        <p:spPr>
          <a:xfrm>
            <a:off x="3983040" y="1928880"/>
            <a:ext cx="1303200" cy="1263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DSC01880"/>
          <p:cNvPicPr/>
          <p:nvPr/>
        </p:nvPicPr>
        <p:blipFill>
          <a:blip r:embed="rId3"/>
          <a:stretch/>
        </p:blipFill>
        <p:spPr>
          <a:xfrm>
            <a:off x="4932360" y="3933720"/>
            <a:ext cx="1714680" cy="1285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" descr="实物觉"/>
          <p:cNvPicPr/>
          <p:nvPr/>
        </p:nvPicPr>
        <p:blipFill>
          <a:blip r:embed="rId4"/>
          <a:stretch/>
        </p:blipFill>
        <p:spPr>
          <a:xfrm>
            <a:off x="1500120" y="3916440"/>
            <a:ext cx="1381320" cy="12189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-973080" y="4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422240" y="24530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4442040" y="684396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24"/>
          <p:cNvSpPr/>
          <p:nvPr/>
        </p:nvSpPr>
        <p:spPr>
          <a:xfrm>
            <a:off x="2435400" y="3273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痛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Box 25"/>
          <p:cNvSpPr/>
          <p:nvPr/>
        </p:nvSpPr>
        <p:spPr>
          <a:xfrm>
            <a:off x="4292640" y="3273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触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Box 26"/>
          <p:cNvSpPr/>
          <p:nvPr/>
        </p:nvSpPr>
        <p:spPr>
          <a:xfrm>
            <a:off x="5450760" y="5273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两点辨别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Box 27"/>
          <p:cNvSpPr/>
          <p:nvPr/>
        </p:nvSpPr>
        <p:spPr>
          <a:xfrm>
            <a:off x="1807560" y="5214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实物辨别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5" name="Picture 12" descr="D:\sun\教学\评估\图片\扫描图\其他\震动觉.jpg"/>
          <p:cNvPicPr/>
          <p:nvPr/>
        </p:nvPicPr>
        <p:blipFill>
          <a:blip r:embed="rId5"/>
          <a:stretch/>
        </p:blipFill>
        <p:spPr>
          <a:xfrm>
            <a:off x="3429000" y="3916440"/>
            <a:ext cx="1042920" cy="1158840"/>
          </a:xfrm>
          <a:prstGeom prst="rect">
            <a:avLst/>
          </a:prstGeom>
          <a:ln w="0">
            <a:noFill/>
          </a:ln>
        </p:spPr>
      </p:pic>
      <p:sp>
        <p:nvSpPr>
          <p:cNvPr id="176" name="TextBox 39"/>
          <p:cNvSpPr/>
          <p:nvPr/>
        </p:nvSpPr>
        <p:spPr>
          <a:xfrm>
            <a:off x="3714480" y="5202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振动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20"/>
          <p:cNvSpPr/>
          <p:nvPr/>
        </p:nvSpPr>
        <p:spPr>
          <a:xfrm>
            <a:off x="2484360" y="2421000"/>
            <a:ext cx="576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21"/>
          <p:cNvSpPr/>
          <p:nvPr/>
        </p:nvSpPr>
        <p:spPr>
          <a:xfrm>
            <a:off x="4284720" y="2349360"/>
            <a:ext cx="576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19FE-4D64-4A51-9DC0-E333BA4EB28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矩形 4"/>
          <p:cNvSpPr/>
          <p:nvPr/>
        </p:nvSpPr>
        <p:spPr>
          <a:xfrm>
            <a:off x="785880" y="2286000"/>
            <a:ext cx="7500960" cy="36432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痛觉障碍见于脊髓丘脑侧束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触觉障碍见于脊髓丘脑前束和后索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物辨别觉功能障碍见于皮质病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振动觉障碍见于后索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61616"/>
                </a:solidFill>
                <a:latin typeface="宋体"/>
              </a:rPr>
              <a:t>触觉正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点辨别觉障碍时则为颞叶病变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BDFC-A9F5-4D33-B80C-549A42DAEA2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肌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55640" y="1916280"/>
          <a:ext cx="7561440" cy="4498920"/>
        </p:xfrm>
        <a:graphic>
          <a:graphicData uri="http://schemas.openxmlformats.org/drawingml/2006/table">
            <a:tbl>
              <a:tblPr/>
              <a:tblGrid>
                <a:gridCol w="1657440"/>
                <a:gridCol w="5904000"/>
              </a:tblGrid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临床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肉无任何收缩（完全瘫痪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肉可轻微收缩，但不能产生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在床面水平移动，但不能抬离床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抬离床面，但不能克服阻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作抗阻力动作，未达到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力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6715-EF71-40DE-BF89-8786A676E4D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瘫痪类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16000" y="1895400"/>
          <a:ext cx="7128000" cy="4557960"/>
        </p:xfrm>
        <a:graphic>
          <a:graphicData uri="http://schemas.openxmlformats.org/drawingml/2006/table">
            <a:tbl>
              <a:tblPr/>
              <a:tblGrid>
                <a:gridCol w="4249800"/>
                <a:gridCol w="287820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病变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瘫痪类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某一神经根支配区或某些肌群无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局限性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大脑半球、脊髓前角细胞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单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一侧大脑半球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偏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脑、脑桥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交叉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脊髓横贯性损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截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高颈段脊髓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四肢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97C4-12D4-4CD4-9F3B-C3CD36E9AC1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683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上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下运动神经元瘫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内容占位符 6" descr="图片1.png"/>
          <p:cNvPicPr/>
          <p:nvPr/>
        </p:nvPicPr>
        <p:blipFill>
          <a:blip r:embed="rId1"/>
          <a:stretch/>
        </p:blipFill>
        <p:spPr>
          <a:xfrm>
            <a:off x="928800" y="1714680"/>
            <a:ext cx="750096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9F52-2CD2-4EA1-916A-160F27C9787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683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肌张力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143000" y="2214720"/>
          <a:ext cx="7072200" cy="3535200"/>
        </p:xfrm>
        <a:graphic>
          <a:graphicData uri="http://schemas.openxmlformats.org/drawingml/2006/table">
            <a:tbl>
              <a:tblPr/>
              <a:tblGrid>
                <a:gridCol w="1500120"/>
                <a:gridCol w="5572080"/>
              </a:tblGrid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张力增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折刀现象：见于锥体束受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铅管样强直：见于锥体外系受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919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张力减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见于周围神经炎、脊髓前角灰质炎或小脑病变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自主运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71680" y="1928880"/>
          <a:ext cx="8001000" cy="4236840"/>
        </p:xfrm>
        <a:graphic>
          <a:graphicData uri="http://schemas.openxmlformats.org/drawingml/2006/table">
            <a:tbl>
              <a:tblPr/>
              <a:tblGrid>
                <a:gridCol w="1574640"/>
                <a:gridCol w="6426360"/>
              </a:tblGrid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震颤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静止性震颤：见于帕金森病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意向性震颤：见于小脑病变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姿势性震颤：如甲状腺功能亢进时，患者可表现为两上肢平伸时手指的细震颤。肝性脑病时出现扑翼样震颤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舞蹈样运动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常表现为“做鬼脸”、耸肩、转颈等舞蹈样动作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睡眠时可减轻或消失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常见于</a:t>
                      </a:r>
                      <a:r>
                        <a:rPr b="1" lang="zh-CN" sz="2000" spc="-1" strike="noStrike">
                          <a:solidFill>
                            <a:srgbClr val="fe230c"/>
                          </a:solidFill>
                          <a:latin typeface="宋体"/>
                        </a:rPr>
                        <a:t>儿童期脑风湿性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手足徐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见于脑性瘫痪和脑基底核变性等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20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D143-EF17-47BF-BF9E-8E98A0CB500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共济运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85840" y="1785960"/>
          <a:ext cx="8858160" cy="5010120"/>
        </p:xfrm>
        <a:graphic>
          <a:graphicData uri="http://schemas.openxmlformats.org/drawingml/2006/table">
            <a:tbl>
              <a:tblPr/>
              <a:tblGrid>
                <a:gridCol w="2442960"/>
                <a:gridCol w="6415200"/>
              </a:tblGrid>
              <a:tr h="1380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指鼻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共济失调者多指鼻有误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小脑半球病变者同侧指鼻不准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如睁眼时指鼻准确，闭眼时出现障碍为感觉性共济失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跟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-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膝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-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胫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小脑损害时动作不稳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感觉性共济失调者闭眼时足跟难以寻到膝盖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轮替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共济失调者动作缓慢、不协调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闭目难立征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(Romberg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征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仅闭目不稳者提示感觉性共济失调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闭目睁目皆不稳者提示小脑病变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206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1E3E-B12D-4BCF-8BAF-E6B84DC7A84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角膜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403280" y="2781360"/>
            <a:ext cx="7128000" cy="2064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估方法：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嘱患者眼睛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向内上方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注视，评估者将棉签絮捻成细束，用其末端轻触一侧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角膜外缘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，正常反应为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眼睑迅速闭合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直接角膜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间接角膜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AE66-FB73-4FE0-B4FD-C86EFB72880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角膜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755640" y="2637000"/>
            <a:ext cx="8137440" cy="26949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异常反应及临床意义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一侧三叉神经病变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直接和间接角膜反射均消失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一侧面神经病变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直接角膜反射消失，间接角膜反射存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深昏迷患者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双侧角膜反射完全消失。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5F0C-CFA7-4238-9F1E-5045194886C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AE87-6F17-4A8E-B8D1-0AD10406C9E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214280"/>
            <a:ext cx="422892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脑神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觉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浅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深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皮质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肌力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肌张力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不自主运动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共济运动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716360" y="1196640"/>
            <a:ext cx="422928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神经反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浅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深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病理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脑膜刺激征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腹壁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3887640" y="1557360"/>
            <a:ext cx="5256360" cy="257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估方法：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嘱患者取仰卧位，两下肢稍屈曲，使腹壁松弛，评估者用钝头竹签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由外向内</a:t>
            </a:r>
            <a:r>
              <a:rPr b="1" i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轻划腹上部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</a:t>
            </a:r>
            <a:r>
              <a:rPr b="1" i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腹中部、腹下部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的皮肤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反应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受刺激部位</a:t>
            </a:r>
            <a:r>
              <a:rPr b="1" lang="zh-CN" sz="36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腹肌收缩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" name="Picture 6" descr="图10-1"/>
          <p:cNvPicPr/>
          <p:nvPr/>
        </p:nvPicPr>
        <p:blipFill>
          <a:blip r:embed="rId1"/>
          <a:stretch/>
        </p:blipFill>
        <p:spPr>
          <a:xfrm>
            <a:off x="395280" y="2565360"/>
            <a:ext cx="3157560" cy="3816360"/>
          </a:xfrm>
          <a:prstGeom prst="rect">
            <a:avLst/>
          </a:prstGeom>
          <a:ln w="0">
            <a:noFill/>
          </a:ln>
        </p:spPr>
      </p:pic>
      <p:sp>
        <p:nvSpPr>
          <p:cNvPr id="21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0F08-03C9-4D95-A074-1CF33FCBC47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腹壁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755640" y="2637000"/>
            <a:ext cx="8064360" cy="246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常反应及临床意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脊髓不同节段受损→相应部位的腹壁反射消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侧锥体束受损→同侧腹壁反射减弱或消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昏迷、急腹症、经产妇、肥胖及老年人等，可因腹壁松弛，使腹壁反射减弱或消失。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DF35-9D18-46CA-A9AC-40EB3AE934F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肱二头肌反射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肱三头肌反射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5" descr="图10-2"/>
          <p:cNvPicPr/>
          <p:nvPr/>
        </p:nvPicPr>
        <p:blipFill>
          <a:blip r:embed="rId1"/>
          <a:stretch/>
        </p:blipFill>
        <p:spPr>
          <a:xfrm>
            <a:off x="539640" y="2565360"/>
            <a:ext cx="3743280" cy="3778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图10-3"/>
          <p:cNvPicPr/>
          <p:nvPr/>
        </p:nvPicPr>
        <p:blipFill>
          <a:blip r:embed="rId2"/>
          <a:stretch/>
        </p:blipFill>
        <p:spPr>
          <a:xfrm>
            <a:off x="5219640" y="2565360"/>
            <a:ext cx="3405240" cy="3745080"/>
          </a:xfrm>
          <a:prstGeom prst="rect">
            <a:avLst/>
          </a:prstGeom>
          <a:ln w="0">
            <a:noFill/>
          </a:ln>
        </p:spPr>
      </p:pic>
      <p:sp>
        <p:nvSpPr>
          <p:cNvPr id="2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710A-9070-4E0F-A02D-2D0B3ED8CBB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膝反射    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跟腱反射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Picture 4" descr="图10-4"/>
          <p:cNvPicPr/>
          <p:nvPr/>
        </p:nvPicPr>
        <p:blipFill>
          <a:blip r:embed="rId1"/>
          <a:stretch/>
        </p:blipFill>
        <p:spPr>
          <a:xfrm>
            <a:off x="324000" y="2565360"/>
            <a:ext cx="4824360" cy="3598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图10-5"/>
          <p:cNvPicPr/>
          <p:nvPr/>
        </p:nvPicPr>
        <p:blipFill>
          <a:blip r:embed="rId2"/>
          <a:stretch/>
        </p:blipFill>
        <p:spPr>
          <a:xfrm>
            <a:off x="5435640" y="2852640"/>
            <a:ext cx="3384360" cy="3589560"/>
          </a:xfrm>
          <a:prstGeom prst="rect">
            <a:avLst/>
          </a:prstGeom>
          <a:ln w="0">
            <a:noFill/>
          </a:ln>
        </p:spPr>
      </p:pic>
      <p:sp>
        <p:nvSpPr>
          <p:cNvPr id="23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139B-4989-4A0C-A702-3F3BF1BDF6C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468360" y="2133720"/>
            <a:ext cx="8136000" cy="4103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反射强度一般分为以下几级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 反射消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1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肌肉有收缩，但无相应关节活动，为反射减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肌肉收缩并导致关节活动，为正常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3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反射增强，可为正常或病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4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反射亢进并伴有阵挛，为病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DFF1-CCD2-4F70-ABC4-45A3570269B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395280" y="2060640"/>
            <a:ext cx="576360" cy="432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异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常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反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应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及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临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床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意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1258920" y="2133720"/>
            <a:ext cx="7483320" cy="4152960"/>
          </a:xfrm>
          <a:prstGeom prst="rect">
            <a:avLst/>
          </a:prstGeom>
          <a:solidFill>
            <a:srgbClr val="e8f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</a:rPr>
              <a:t>深反射减弱或消失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下运动神经元瘫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重要体征，见于末梢神经炎、神经根炎脊髓前角灰质炎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</a:rPr>
              <a:t>深反射增强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上运动神经元瘫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重要体征，见于脑血管病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深反射极度亢进者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可出现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踝阵挛髌阵挛等现象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见于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锥体束以上病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255A-BF7E-4C02-8759-5FC8A4BC5B5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1403280" y="1989000"/>
            <a:ext cx="7416720" cy="1729080"/>
          </a:xfrm>
          <a:prstGeom prst="wedgeRectCallout">
            <a:avLst>
              <a:gd name="adj1" fmla="val -52268"/>
              <a:gd name="adj2" fmla="val -62578"/>
            </a:avLst>
          </a:prstGeom>
          <a:solidFill>
            <a:srgbClr val="bde6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指锥体束病变导致大脑失去对脑干和脊髓的抑制作用所出现的</a:t>
            </a:r>
            <a:r>
              <a:rPr b="1" lang="zh-CN" sz="4000" spc="-1" strike="noStrike">
                <a:solidFill>
                  <a:srgbClr val="fe230c"/>
                </a:solidFill>
                <a:latin typeface="Comic Sans MS"/>
                <a:ea typeface="楷体_GB2312"/>
              </a:rPr>
              <a:t>异常反射。</a:t>
            </a:r>
            <a:r>
              <a:rPr b="1" lang="zh-CN" sz="4000" spc="-1" strike="noStrike">
                <a:solidFill>
                  <a:srgbClr val="fe230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1258920" y="4005360"/>
            <a:ext cx="6913440" cy="2352600"/>
          </a:xfrm>
          <a:solidFill>
            <a:srgbClr val="ffc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巴宾斯基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Babinski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征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奥本海姆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Oppenheim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征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戈登    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Gordon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查多克    （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haddock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5" descr="图10-6"/>
          <p:cNvPicPr/>
          <p:nvPr/>
        </p:nvPicPr>
        <p:blipFill>
          <a:blip r:embed="rId1"/>
          <a:stretch/>
        </p:blipFill>
        <p:spPr>
          <a:xfrm>
            <a:off x="2843280" y="1916280"/>
            <a:ext cx="5832360" cy="424944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6"/>
          <p:cNvSpPr/>
          <p:nvPr/>
        </p:nvSpPr>
        <p:spPr>
          <a:xfrm>
            <a:off x="250920" y="2708280"/>
            <a:ext cx="2232000" cy="3168720"/>
          </a:xfrm>
          <a:prstGeom prst="cloudCallout">
            <a:avLst>
              <a:gd name="adj1" fmla="val 124680"/>
              <a:gd name="adj2" fmla="val -20689"/>
            </a:avLst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最典型的病理反射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1112-0124-41D0-A4E8-A66587E8DF3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365400" y="2205000"/>
            <a:ext cx="1277640" cy="23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Comic Sans MS"/>
                <a:ea typeface="楷体_GB2312"/>
              </a:rPr>
              <a:t>阳性反应</a:t>
            </a:r>
            <a:r>
              <a:rPr b="0" lang="zh-CN" sz="1800" spc="-1" strike="noStrike">
                <a:solidFill>
                  <a:srgbClr val="fe230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2843280" y="2492280"/>
            <a:ext cx="5545080" cy="1206720"/>
          </a:xfrm>
          <a:prstGeom prst="borderCallout1">
            <a:avLst>
              <a:gd name="adj1" fmla="val 18750"/>
              <a:gd name="adj2" fmla="val -8333"/>
              <a:gd name="adj3" fmla="val -6314"/>
              <a:gd name="adj4" fmla="val -19782"/>
            </a:avLst>
          </a:prstGeom>
          <a:solidFill>
            <a:srgbClr val="bde6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拇趾缓缓背伸，其余四趾呈扇形展开</a:t>
            </a:r>
            <a:r>
              <a:rPr b="0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1763640" y="4005360"/>
            <a:ext cx="6985080" cy="2376360"/>
          </a:xfrm>
          <a:prstGeom prst="rect">
            <a:avLst/>
          </a:prstGeom>
          <a:solidFill>
            <a:srgbClr val="e8f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</a:rPr>
              <a:t>一岁半以内的婴幼儿因锥体束尚未发育完善，上述表现也会出现，但不属于病理反射，应加以鉴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成人出现此类反射时则为病理性的，见于锥体束损害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e230c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灯片编号占位符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72DE-AB65-4FE6-BDF5-EAE32932273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脑膜刺激征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      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脑膜受刺激的体征，见于各种</a:t>
            </a:r>
            <a:r>
              <a:rPr b="0" lang="zh-CN" sz="3000" spc="-1" strike="noStrike">
                <a:solidFill>
                  <a:srgbClr val="ff0000"/>
                </a:solidFill>
                <a:latin typeface="Verdana"/>
                <a:ea typeface="宋体"/>
              </a:rPr>
              <a:t>脑膜炎、蛛网膜下腔出血、颅内压增高等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1785960" y="3429000"/>
            <a:ext cx="6978600" cy="2357280"/>
          </a:xfrm>
          <a:prstGeom prst="borderCallout2">
            <a:avLst>
              <a:gd name="adj1" fmla="val 18750"/>
              <a:gd name="adj2" fmla="val -8333"/>
              <a:gd name="adj3" fmla="val -4421"/>
              <a:gd name="adj4" fmla="val -18865"/>
              <a:gd name="adj5" fmla="val -72657"/>
              <a:gd name="adj6" fmla="val -13282"/>
            </a:avLst>
          </a:prstGeom>
          <a:gradFill rotWithShape="0">
            <a:gsLst>
              <a:gs pos="0">
                <a:srgbClr val="fff8b3"/>
              </a:gs>
              <a:gs pos="50000">
                <a:srgbClr val="ffffff"/>
              </a:gs>
              <a:gs pos="100000">
                <a:srgbClr val="fff8b3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颈项强直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克尼格（</a:t>
            </a: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Kernig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征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布鲁津斯基（</a:t>
            </a: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Brudzinski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征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744D-6452-4192-88E9-1F8EDD17531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09F0-2728-43FC-993F-53735FB20DA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6717-6D59-420F-9EE1-0EB86F50350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描述神经系统评估的主要内容，正常表现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解释神经系统评估常见异常改变及其临床意义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正确进行神经系统的评估，并准确描述评估所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F985-784D-4F43-B0C8-21527133CC64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35684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脑膜刺激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5" descr="图10-7"/>
          <p:cNvPicPr/>
          <p:nvPr/>
        </p:nvPicPr>
        <p:blipFill>
          <a:blip r:embed="rId1"/>
          <a:stretch/>
        </p:blipFill>
        <p:spPr>
          <a:xfrm>
            <a:off x="285840" y="2500200"/>
            <a:ext cx="4289400" cy="2714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图10-8"/>
          <p:cNvPicPr/>
          <p:nvPr/>
        </p:nvPicPr>
        <p:blipFill>
          <a:blip r:embed="rId2"/>
          <a:stretch/>
        </p:blipFill>
        <p:spPr>
          <a:xfrm>
            <a:off x="4857840" y="1500120"/>
            <a:ext cx="4000320" cy="2519280"/>
          </a:xfrm>
          <a:prstGeom prst="rect">
            <a:avLst/>
          </a:prstGeom>
          <a:ln w="0">
            <a:noFill/>
          </a:ln>
        </p:spPr>
      </p:pic>
      <p:sp>
        <p:nvSpPr>
          <p:cNvPr id="266" name="矩形 5"/>
          <p:cNvSpPr/>
          <p:nvPr/>
        </p:nvSpPr>
        <p:spPr>
          <a:xfrm>
            <a:off x="1357200" y="5715000"/>
            <a:ext cx="1285920" cy="4287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ernig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矩形 6"/>
          <p:cNvSpPr/>
          <p:nvPr/>
        </p:nvSpPr>
        <p:spPr>
          <a:xfrm>
            <a:off x="5857920" y="4071960"/>
            <a:ext cx="185724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udzinski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灯片编号占位符 7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0D10-6ABC-4ABE-AE18-5BF11E5272B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A160-2306-4329-8B3F-A3B4E2A4B71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主神经功能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85840" y="1638360"/>
          <a:ext cx="8286840" cy="4170240"/>
        </p:xfrm>
        <a:graphic>
          <a:graphicData uri="http://schemas.openxmlformats.org/drawingml/2006/table">
            <a:tbl>
              <a:tblPr/>
              <a:tblGrid>
                <a:gridCol w="1801800"/>
                <a:gridCol w="6485040"/>
              </a:tblGrid>
              <a:tr h="161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眼心反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正常可减少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分。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提示副交感神经功能亢进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迷走神经麻痹无反应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压迫后脉率不减少反而增加，提示交感神经功能亢进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9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卧立位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由卧位到立位脉率增加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为交感神经兴奋性增强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由立位到卧位脉率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减慢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分为副交感神经兴奋性增强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皮肤划痕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果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白色划痕持续时间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，提示交感神经兴奋性增高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。如果用棉签杆划压后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很快出现红色划痕，且持续时间较长，提示副交感神经兴奋性增高或交感神经麻痹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65BA-11C5-4231-8CA4-CD6058055A5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主神经功能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85840" y="1638360"/>
          <a:ext cx="8286840" cy="4022640"/>
        </p:xfrm>
        <a:graphic>
          <a:graphicData uri="http://schemas.openxmlformats.org/drawingml/2006/table">
            <a:tbl>
              <a:tblPr/>
              <a:tblGrid>
                <a:gridCol w="1928880"/>
                <a:gridCol w="6357960"/>
              </a:tblGrid>
              <a:tr h="1533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竖毛反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竖毛肌由交感神经支配，根据竖毛反射障碍的部位来判断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交感神经功能障碍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的范围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发汗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皮下注射毛果芸香碱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0mg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，作用于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交感神经节后纤维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而引起出汗，出汗处淀粉变蓝色，无汗处颜色不变，可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协助判断交感神经功能障碍的范围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瓦尔萨尔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正常人≥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.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果＜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.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，提示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压力感受器功能不灵敏或其反射弧的传入纤维或传出纤维损害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5D23-A446-4F50-A581-07222CF1E58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嗅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视神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动眼神经、滑车神经、展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三叉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面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听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舌咽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迷走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副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舌下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1929-DC57-4FE3-BEB2-4AA7B2E6B85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图片 5" descr="暴风截图20156817504812.jpg"/>
          <p:cNvPicPr/>
          <p:nvPr/>
        </p:nvPicPr>
        <p:blipFill>
          <a:blip r:embed="rId1"/>
          <a:stretch/>
        </p:blipFill>
        <p:spPr>
          <a:xfrm>
            <a:off x="785880" y="2100240"/>
            <a:ext cx="2500200" cy="2000160"/>
          </a:xfrm>
          <a:prstGeom prst="rect">
            <a:avLst/>
          </a:prstGeom>
          <a:ln w="0">
            <a:noFill/>
          </a:ln>
        </p:spPr>
      </p:pic>
      <p:sp>
        <p:nvSpPr>
          <p:cNvPr id="128" name="矩形 6"/>
          <p:cNvSpPr/>
          <p:nvPr/>
        </p:nvSpPr>
        <p:spPr>
          <a:xfrm>
            <a:off x="1214280" y="428616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嗅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图片 7" descr="暴风截图20156818826500.jpg"/>
          <p:cNvPicPr/>
          <p:nvPr/>
        </p:nvPicPr>
        <p:blipFill>
          <a:blip r:embed="rId2"/>
          <a:stretch/>
        </p:blipFill>
        <p:spPr>
          <a:xfrm>
            <a:off x="3643200" y="2143080"/>
            <a:ext cx="2446560" cy="1957320"/>
          </a:xfrm>
          <a:prstGeom prst="rect">
            <a:avLst/>
          </a:prstGeom>
          <a:ln w="0">
            <a:noFill/>
          </a:ln>
        </p:spPr>
      </p:pic>
      <p:sp>
        <p:nvSpPr>
          <p:cNvPr id="130" name="矩形 8"/>
          <p:cNvSpPr/>
          <p:nvPr/>
        </p:nvSpPr>
        <p:spPr>
          <a:xfrm>
            <a:off x="4071960" y="4286160"/>
            <a:ext cx="135720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三叉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1" name="图片 9" descr="暴风截图20156818973281.jpg"/>
          <p:cNvPicPr/>
          <p:nvPr/>
        </p:nvPicPr>
        <p:blipFill>
          <a:blip r:embed="rId3"/>
          <a:stretch/>
        </p:blipFill>
        <p:spPr>
          <a:xfrm>
            <a:off x="6340320" y="2143080"/>
            <a:ext cx="2446560" cy="1957320"/>
          </a:xfrm>
          <a:prstGeom prst="rect">
            <a:avLst/>
          </a:prstGeom>
          <a:ln w="0">
            <a:noFill/>
          </a:ln>
        </p:spPr>
      </p:pic>
      <p:sp>
        <p:nvSpPr>
          <p:cNvPr id="132" name="矩形 10"/>
          <p:cNvSpPr/>
          <p:nvPr/>
        </p:nvSpPr>
        <p:spPr>
          <a:xfrm>
            <a:off x="7072200" y="421488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面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20"/>
          <p:cNvSpPr/>
          <p:nvPr/>
        </p:nvSpPr>
        <p:spPr>
          <a:xfrm>
            <a:off x="4714920" y="2714760"/>
            <a:ext cx="647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20"/>
          <p:cNvSpPr/>
          <p:nvPr/>
        </p:nvSpPr>
        <p:spPr>
          <a:xfrm>
            <a:off x="7358040" y="2857680"/>
            <a:ext cx="720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8C08-FE98-4AD3-950F-01FE1A33E7D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图片 4" descr="暴风截图20156817818140.jpg"/>
          <p:cNvPicPr/>
          <p:nvPr/>
        </p:nvPicPr>
        <p:blipFill>
          <a:blip r:embed="rId1"/>
          <a:stretch/>
        </p:blipFill>
        <p:spPr>
          <a:xfrm>
            <a:off x="2428920" y="1357200"/>
            <a:ext cx="2232000" cy="1785960"/>
          </a:xfrm>
          <a:prstGeom prst="rect">
            <a:avLst/>
          </a:prstGeom>
          <a:ln w="0">
            <a:noFill/>
          </a:ln>
        </p:spPr>
      </p:pic>
      <p:sp>
        <p:nvSpPr>
          <p:cNvPr id="139" name="矩形 5"/>
          <p:cNvSpPr/>
          <p:nvPr/>
        </p:nvSpPr>
        <p:spPr>
          <a:xfrm>
            <a:off x="2643120" y="342900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听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图片 6" descr="暴风截图20156818014656.jpg"/>
          <p:cNvPicPr/>
          <p:nvPr/>
        </p:nvPicPr>
        <p:blipFill>
          <a:blip r:embed="rId2"/>
          <a:stretch/>
        </p:blipFill>
        <p:spPr>
          <a:xfrm>
            <a:off x="5357880" y="1357200"/>
            <a:ext cx="2214360" cy="1771920"/>
          </a:xfrm>
          <a:prstGeom prst="rect">
            <a:avLst/>
          </a:prstGeom>
          <a:ln w="0">
            <a:noFill/>
          </a:ln>
        </p:spPr>
      </p:pic>
      <p:sp>
        <p:nvSpPr>
          <p:cNvPr id="141" name="矩形 8"/>
          <p:cNvSpPr/>
          <p:nvPr/>
        </p:nvSpPr>
        <p:spPr>
          <a:xfrm>
            <a:off x="5429160" y="3357720"/>
            <a:ext cx="2000520" cy="357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舌咽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迷走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图片 9" descr="暴风截图20156818416453.jpg"/>
          <p:cNvPicPr/>
          <p:nvPr/>
        </p:nvPicPr>
        <p:blipFill>
          <a:blip r:embed="rId3"/>
          <a:stretch/>
        </p:blipFill>
        <p:spPr>
          <a:xfrm>
            <a:off x="857160" y="4143240"/>
            <a:ext cx="2268720" cy="1814760"/>
          </a:xfrm>
          <a:prstGeom prst="rect">
            <a:avLst/>
          </a:prstGeom>
          <a:ln w="0">
            <a:noFill/>
          </a:ln>
        </p:spPr>
      </p:pic>
      <p:sp>
        <p:nvSpPr>
          <p:cNvPr id="143" name="矩形 10"/>
          <p:cNvSpPr/>
          <p:nvPr/>
        </p:nvSpPr>
        <p:spPr>
          <a:xfrm>
            <a:off x="1285920" y="6143760"/>
            <a:ext cx="1357200" cy="2854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副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图片 11" descr="暴风截图20156818566781.jpg"/>
          <p:cNvPicPr/>
          <p:nvPr/>
        </p:nvPicPr>
        <p:blipFill>
          <a:blip r:embed="rId4"/>
          <a:stretch/>
        </p:blipFill>
        <p:spPr>
          <a:xfrm>
            <a:off x="5715000" y="4071960"/>
            <a:ext cx="2357280" cy="1886040"/>
          </a:xfrm>
          <a:prstGeom prst="rect">
            <a:avLst/>
          </a:prstGeom>
          <a:ln w="0">
            <a:noFill/>
          </a:ln>
        </p:spPr>
      </p:pic>
      <p:sp>
        <p:nvSpPr>
          <p:cNvPr id="145" name="矩形 12"/>
          <p:cNvSpPr/>
          <p:nvPr/>
        </p:nvSpPr>
        <p:spPr>
          <a:xfrm>
            <a:off x="6357960" y="6143760"/>
            <a:ext cx="1357200" cy="2854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舌下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20"/>
          <p:cNvSpPr/>
          <p:nvPr/>
        </p:nvSpPr>
        <p:spPr>
          <a:xfrm>
            <a:off x="6072120" y="1500120"/>
            <a:ext cx="792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20"/>
          <p:cNvSpPr/>
          <p:nvPr/>
        </p:nvSpPr>
        <p:spPr>
          <a:xfrm>
            <a:off x="6572160" y="4214880"/>
            <a:ext cx="72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D5BA-7A27-4166-A924-08343C8D426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357120" y="1714680"/>
            <a:ext cx="8501040" cy="47145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嗅觉减退或丧失如能排除鼻黏膜病变，提示同侧嗅神经损害，可见于颅脑创伤、颅前窝占位性病变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枢性面瘫只出现病灶对侧下半部表情肌瘫痪，而皱额、闭眼无影响，主要见于脑血管意外、脑肿瘤或炎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舌咽神经受损，表现为吞咽困难、饮水呛咳，见于脑干病变、鼻咽癌转移等。如一侧软腭不能上抬及腭垂偏向健侧，提示该侧迷走神经麻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1"/>
          <p:cNvSpPr/>
          <p:nvPr/>
        </p:nvSpPr>
        <p:spPr>
          <a:xfrm>
            <a:off x="4444200" y="90360"/>
            <a:ext cx="25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Arial"/>
                <a:ea typeface="Courier New"/>
              </a:rPr>
              <a:t>副神经受损时，可出现患侧肌力下降，表现为向对侧转头及患侧耸肩无力，可伴有患侧肌肉萎缩。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832C-2B79-460C-93C5-98DAD23C80E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785880" y="1857240"/>
            <a:ext cx="7786800" cy="44294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副神经受损时，可出现患侧肌力下降，表现为向对侧转头及患侧耸肩无力，可伴有患侧肌肉萎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侧舌下神经麻痹时，伸舌偏向患侧，多见于脑血管意外。双侧舌下神经麻痹，不能伸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1"/>
          <p:cNvSpPr/>
          <p:nvPr/>
        </p:nvSpPr>
        <p:spPr>
          <a:xfrm>
            <a:off x="4444200" y="90360"/>
            <a:ext cx="25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Arial"/>
                <a:ea typeface="Courier New"/>
              </a:rPr>
              <a:t>副神经受损时，可出现患侧肌力下降，表现为向对侧转头及患侧耸肩无力，可伴有患侧肌肉萎缩。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4F23-C997-4A44-AF84-915AD78CBCF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一、浅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温度觉、痛觉、触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二、深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动觉、位置觉、振动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三、皮质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皮肤定位觉、两点辨别觉、实物辨别觉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9:22:16Z</dcterms:modified>
  <cp:revision>12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